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E34-66C6-4E22-8500-808FB509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02F-DAF0-4948-A37A-F3C3F4AC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B61-3DA4-4943-8AAA-FC3A2337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059-083F-498D-BF4C-A161468D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A5D-DCDB-4185-AAC8-F307C171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651-FCB4-4089-B7D1-85B84D14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147-B62D-4BB4-BA09-E6DBB314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708-1B91-435F-83EA-FD5D06B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364-535C-41E9-9CCA-392C236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F6A-6513-4039-A7FE-551E820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C0A-68CA-44FA-B09D-C97D952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8B6-1330-4B80-86AB-8CC6687C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F3D-745A-4FB9-A905-5990A8F8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15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f15a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Gill Sans Ultra Bold"/>
              </a:rPr>
              <a:t>Revision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solidFill>
            <a:srgbClr val="ef15a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Impact"/>
              </a:rPr>
              <a:t>Allie, Richard, and Mary Cathe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Ultra Bold"/>
              </a:rPr>
              <a:t>Sentence Variety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ill Sans Ultra Bold"/>
              </a:rPr>
              <a:t>Varying Sentence Beginn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improve the style of your writing by beginning some sentences with introductory words, phrases, and clauses instead of with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lacrosse team qualified for the state finals.  The players never stopped practicing from the minute they got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lacrosse team qualified for the state finals. </a:t>
            </a:r>
            <a:r>
              <a:rPr b="1" lang="en-US" sz="2800" spc="-1" strike="noStrike">
                <a:solidFill>
                  <a:srgbClr val="ef15a6"/>
                </a:solidFill>
                <a:latin typeface="Arial"/>
              </a:rPr>
              <a:t>From the minute they got the ne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y players never stopped practi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Marion was shy in the classroom.  She came into her own, however, on the st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Marion was shy in the classroom.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 the s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however, she came into her 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arying Sentence 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 Ultra Bold"/>
              </a:rPr>
              <a:t>Sentence Conn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most everyone watches television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how many people really know how a television set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 Ultra Bold"/>
              </a:rPr>
              <a:t>Appos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merchant sailor for ten years, Jim knew every important por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Impact"/>
              </a:rPr>
              <a:t>Varying Sentence Beginn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Single-Word Modif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15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5a6"/>
                </a:solidFill>
                <a:latin typeface="Arial"/>
              </a:rPr>
              <a:t>Shivering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, we warmed our chapped hands by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hrase Modif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15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5a6"/>
                </a:solidFill>
                <a:latin typeface="Arial"/>
              </a:rPr>
              <a:t>From the window of the plane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, Richard saw his family waving goodb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red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Vivid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Clich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ired wor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one that has become vague and bland from overuse. For instance, the wo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ea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used to describe anything from a sandwich to a Nobel Prize winner. Tired words take the strength from your writing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vid words are words that make your paper more interesting. Use vivid words instead of using tired word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 cliché is a tired expression. In other words, it is an expression that is overused. Ex. Clear as crystal, hungry as a horse, a dog’s life, wise as an ow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37:04Z</dcterms:created>
  <dc:creator>User</dc:creator>
  <dc:description/>
  <dc:language>en-US</dc:language>
  <cp:lastModifiedBy>User</cp:lastModifiedBy>
  <dcterms:modified xsi:type="dcterms:W3CDTF">2006-10-10T13:40:35Z</dcterms:modified>
  <cp:revision>4</cp:revision>
  <dc:subject/>
  <dc:title>Revision 2</dc:title>
</cp:coreProperties>
</file>